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8CE-9FC9-432C-823E-01B39693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B3C-4277-4603-A8C2-9FB58607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CA1-7764-4E2A-9566-0313D59D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B9EC-B06C-4816-B923-A468FC34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C8F1-5593-4191-AEBF-134507F8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0F80-AAF2-4B34-8773-C288395F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A59B-EE3C-4423-8DBD-C967F7CD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43D2-5ED3-4707-94C9-5633D972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A0F6-C20A-4BCB-9AB7-8E4B7D4F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3729-249A-4B26-BDBA-61B66A8A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50DD-40A0-49F7-BEAA-58FF6323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586-18F2-4434-ACF7-CA394331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DC84-5E12-4B37-951B-0E9CFB64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32E7-D8A9-4280-AB35-C50FFCD9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307A-BF66-443A-992A-47F46CDD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D5FC-25FF-4758-996D-8E47D66D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454B-0021-4727-AEC0-86E631CE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CB4-759D-4C55-A82F-6A9F0A36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E729-7426-4AF7-A2CE-B2EAC3EB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8E6-6998-4E3F-B052-4DC9E0FC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FBE-E141-4F37-B856-4ADF09DA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1E5-E915-4228-BA3A-1679C690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BDF-ABB6-4256-8C90-F372FFFA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66D-BA46-4F0E-A3D2-5B3C8FD5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FFAF-52E0-4F1B-8CE3-653A36747D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2C81-FECE-4EA2-8FA4-79F5B283E28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120" y="333360"/>
            <a:ext cx="8642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Мордочка, хвост и четыре ноги!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68000" y="1773000"/>
            <a:ext cx="8064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Социально-педагогический проек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нститут иностранных язык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тор проект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алтусова Кристина Юрьев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нститут иностранных язык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р. ИЯ-ВАБ-2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-762120" algn="ctr">
              <a:buClr>
                <a:srgbClr val="b9efee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9efee"/>
                </a:solidFill>
                <a:latin typeface="Garamond"/>
              </a:rPr>
              <a:t>Информационно-просветительская деятельность </a:t>
            </a:r>
            <a:br>
              <a:rPr sz="3200"/>
            </a:br>
            <a:r>
              <a:rPr b="1" i="1" lang="en-US" sz="3200" spc="-1" strike="noStrike">
                <a:solidFill>
                  <a:srgbClr val="b9efee"/>
                </a:solidFill>
                <a:latin typeface="Garamond"/>
              </a:rPr>
              <a:t>(весь период реализации проекта)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оздание и поддержка тематических страниц в социальных сетях, содержащих информацию различного характера о домашних животных, правилах их содержания, их правах, нравственном долге человека перед животными. Предполагается также размещать на страницах объявления по рубрикам «Возьму в добрые руки», «Отдам в добрые руки», «Пропажа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стоянное обновление тематического информационного стенда в фойе 4 этажа ГУ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нформационная поддержка волонтер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здательская деятельность. Издание и распространение печатной продукции: буклетов, листовок, объявлен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2</a:t>
            </a:r>
            <a:r>
              <a:rPr b="1" i="1" lang="en-US" sz="3200" spc="-1" strike="noStrike">
                <a:solidFill>
                  <a:srgbClr val="b9efee"/>
                </a:solidFill>
                <a:latin typeface="Garamond"/>
              </a:rPr>
              <a:t>. Волонтерское движение </a:t>
            </a:r>
            <a:br>
              <a:rPr sz="3200"/>
            </a:br>
            <a:r>
              <a:rPr b="1" i="1" lang="en-US" sz="3200" spc="-1" strike="noStrike">
                <a:solidFill>
                  <a:srgbClr val="b9efee"/>
                </a:solidFill>
                <a:latin typeface="Garamond"/>
              </a:rPr>
              <a:t>(весь период реализации проекта)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влечение добровольцев для оказания помощи зоозащитным организациям Волгограда и Волгоградской области. В частности, Волгоградскому областному благотворительному фонду защиты животных, приюту для бездомных животных «Дино»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работчик проекта Палтусова К.Ю. второй год курирует страницу «Благотворительный аукцион в помощь бездомным животным Волгограда и области» в социальной сети «Вконтакте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ctr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ключение волонтёров для помощи в проведении благотворительной акции «Ах, плохо бездомным, Плохо голодным, Таким беззащитным, Таким беспородным!», направленной на сбор корма и зоотоваров для животных, содержащихся в приюте «Дино».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3. Благотворительная деятельность (апрель 2013 г.)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ка и проведение в апреле 2013 года благотворительной акции «Ах, плохо бездомным, Плохо голодным, Таким беззащитным, Таким беспородным!», направленной на сбор кормов и зоотоваров для животных, содержащихся в приюте «Дино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620280"/>
            <a:ext cx="4475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дь человек - он человек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должен быть гуманным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если это слово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м кажется туманным -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о можно без латыни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просто, по - отечески: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ы человек? Будь добр -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ди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ебя ПО - ЧЕЛОВЕЧЕСКИ 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Б.Заходе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29908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86840" cy="6494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8360" y="3500280"/>
            <a:ext cx="49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e6b"/>
                </a:solidFill>
                <a:latin typeface="Georgia"/>
              </a:rPr>
              <a:t>Мордочка, хвост и четыре</a:t>
            </a:r>
            <a:r>
              <a:rPr b="1" lang="en-US" sz="5400" spc="-1" strike="noStrike">
                <a:solidFill>
                  <a:srgbClr val="006e6b"/>
                </a:solidFill>
                <a:latin typeface="Garamond"/>
              </a:rPr>
              <a:t> ноги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радает человек. Сильно страдает, мил дружки вы мои хорошие. А почему? Потому сиротиночки мы: с землей-матушкой в разладе, с лесом-батюшкой в ссоре, с речкой-сестричкой в разлуке горькой. И стоять не на чем, и прислониться не к чему, и освежиться нечем. А природа, она все покуда терпит. Она молчком умирает, долголетно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никакой человек ей не царь, природе-то. Не царь – вредно это, царем-то зваться. Сын он ее, старший сыночек. Так разумным же будь, не вгоняя в гроб маменьк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Б.Василье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«Не стреляйте в белых лебедей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87280" y="4797360"/>
            <a:ext cx="18529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Данный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социально-педагогический проект предназначен для воплощения идей гармоничного и цивилизованного сосуществования человека и животного путём пропаганды и информационно-просветительской деятельности, проведения разноплановых мероприятий, созвучных тематике проект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Цель проекта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пособствовать формированию гуманного и ответственного отношения к животным, поддержка благотворительной деятель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4246560"/>
            <a:ext cx="3311640" cy="2206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211640" y="4005360"/>
            <a:ext cx="1736640" cy="2436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948360" y="3860640"/>
            <a:ext cx="17892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9efee"/>
                </a:solidFill>
                <a:latin typeface="Garamond"/>
              </a:rPr>
              <a:t>Задачи проекта: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1) пропаганда гуманного и ответственного отношения к животным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2) привлечение внимания современной молодежи к проблеме бездомных животных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3) привлечение волонтеров для оказания помощи благотворительным зоозащитным организациям Волгограда и Волгоградской области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4) предотвращение жестокого обращения с животными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5) повышение нравственной культуры молодеж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пропаганда благотворительной деятельн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Сроки реализации проекта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: 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 год</a:t>
            </a:r>
            <a:br>
              <a:rPr sz="4400"/>
            </a:br>
            <a:br>
              <a:rPr sz="4000"/>
            </a:b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Целевая группа проекта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туденты ВГСПУ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артнеры для реализации проекта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олгоградский областной благотворительный фонд защиты животных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риют для бездомных животных «Дино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лан реализации проект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474560" y="1301040"/>
            <a:ext cx="6123240" cy="5461200"/>
            <a:chOff x="1474560" y="1301040"/>
            <a:chExt cx="6123240" cy="5461200"/>
          </a:xfrm>
        </p:grpSpPr>
        <p:sp>
          <p:nvSpPr>
            <p:cNvPr id="136" name="_s47118"/>
            <p:cNvSpPr/>
            <p:nvPr/>
          </p:nvSpPr>
          <p:spPr>
            <a:xfrm flipH="1">
              <a:off x="3054240" y="5079600"/>
              <a:ext cx="746280" cy="422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47117"/>
            <p:cNvSpPr/>
            <p:nvPr/>
          </p:nvSpPr>
          <p:spPr>
            <a:xfrm>
              <a:off x="1474560" y="5084640"/>
              <a:ext cx="1699560" cy="16776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Garamond"/>
                </a:rPr>
                <a:t>Благотворительна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Garamond"/>
                </a:rPr>
                <a:t>деятельность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47116"/>
            <p:cNvSpPr/>
            <p:nvPr/>
          </p:nvSpPr>
          <p:spPr>
            <a:xfrm>
              <a:off x="5268960" y="5079600"/>
              <a:ext cx="743400" cy="424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47115"/>
            <p:cNvSpPr/>
            <p:nvPr/>
          </p:nvSpPr>
          <p:spPr>
            <a:xfrm>
              <a:off x="5898240" y="5084640"/>
              <a:ext cx="1699560" cy="16776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Garamond"/>
                </a:rPr>
                <a:t>Волонтерско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Garamond"/>
                </a:rPr>
                <a:t>движение</a:t>
              </a: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47114"/>
            <p:cNvSpPr/>
            <p:nvPr/>
          </p:nvSpPr>
          <p:spPr>
            <a:xfrm flipV="1">
              <a:off x="4534920" y="2976480"/>
              <a:ext cx="0" cy="84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47113"/>
            <p:cNvSpPr/>
            <p:nvPr/>
          </p:nvSpPr>
          <p:spPr>
            <a:xfrm>
              <a:off x="3686040" y="1301040"/>
              <a:ext cx="1699560" cy="16779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Garamond"/>
                </a:rPr>
                <a:t>Информационно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Garamond"/>
                </a:rPr>
                <a:t>просветительска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Garamond"/>
                </a:rPr>
                <a:t>деятель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47112"/>
            <p:cNvSpPr/>
            <p:nvPr/>
          </p:nvSpPr>
          <p:spPr>
            <a:xfrm>
              <a:off x="3686040" y="3823920"/>
              <a:ext cx="1699560" cy="16779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Направления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деятельности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9:55:29Z</dcterms:created>
  <dc:creator>инга</dc:creator>
  <dc:description/>
  <dc:language>en-US</dc:language>
  <cp:lastModifiedBy>инга</cp:lastModifiedBy>
  <dcterms:modified xsi:type="dcterms:W3CDTF">2013-03-28T18:27:12Z</dcterms:modified>
  <cp:revision>4</cp:revision>
  <dc:subject/>
  <dc:title>Слайд 1</dc:title>
</cp:coreProperties>
</file>